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525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137-E064-450C-A2ED-A8A2CC7C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AE5-0D9B-49B5-B584-A5A2471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CB0-9C7E-4B5B-89B7-F3A3BAB9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168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912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168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912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096-3BB1-4A22-98F2-E60BD0F6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891-B4FB-44A0-8737-CB99390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676-2988-4348-893A-4690B8C0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928-9C85-4EEF-8F2B-8D4C017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85D-43CF-4071-AC7B-BE455D98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609120"/>
            <a:ext cx="809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C7A-0033-423D-B2F0-C6F8A5A3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0D8-9764-42F9-A211-34F2B4E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C4A-7C39-46BA-B789-410FB0F4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CFA-3737-4318-A7A3-F8534B9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6248520"/>
            <a:ext cx="198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624852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6248520"/>
            <a:ext cx="19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B074-9DA1-4565-BDC1-39969C0B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03920" y="457200"/>
            <a:ext cx="3249720" cy="4457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4120" y="2743200"/>
            <a:ext cx="5064120" cy="32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358920"/>
            <a:ext cx="5105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TORGA DE DIREITO DE USO DA ÁGUA NA MINER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PERIÊNCIA DO ESTADO DE MIN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51814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ria Luiza Silva 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57150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sília, março d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836640"/>
            <a:ext cx="899136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Execução do Proj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ções solici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odelo hidrogeológico conceitual e numérico de fluxo subterrâneo da área de influ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ados consistidos da rede de monitoramento oper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ventário dos pontos d’água e dos usuários de águas superficiais e subterrâneas na área de influ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jeto do sistema de rebaixamento de nível d’água (estruturas de captação, vazão máxima, NA projetado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lano de manejo da água explotada no rebaix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lano de prevenção, controle e mitigação de impac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ros dados específicos a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1467000"/>
            <a:ext cx="7086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 O FOCO DE ANÁLISE DO IG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ção das interferências e impactos, quantitativos e qualitativos, que a atividade de rebaixamento de nível d’água poderá causar nos recursos hídricos na área de influência d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295280"/>
            <a:ext cx="807732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 QUE É OUTORGADO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20000"/>
              </a:lnSpc>
              <a:spcBef>
                <a:spcPts val="2401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A outorga 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é concedida para a vazão do “Sistema de Rebaixamento” e não para cada estrutura de captação de água subterrâ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20000"/>
              </a:lnSpc>
              <a:spcBef>
                <a:spcPts val="2401"/>
              </a:spcBef>
              <a:buClr>
                <a:srgbClr val="00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finalidade de uso da água é o rebaixamento de NA, independentemente da forma de captação no aqüíf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1197000"/>
            <a:ext cx="7467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Fase de Projeto e Pesquisa Hidroge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Wingdings 3"/>
                <a:ea typeface="Wingdings 3"/>
              </a:rPr>
              <a:t>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utorga para Pesquisa Hidroge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validade de acordo com o cronograma pesquisa, podendo ser renov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Fase de Execução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Wingdings 3"/>
                <a:ea typeface="Wingdings 3"/>
              </a:rPr>
              <a:t>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utorga para Rebaixamento de Nível D’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validade de 2 anos, renováve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Outorgas com condic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04920"/>
            <a:ext cx="830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LUXOGRAMA GERAL DO USO DA 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ineração de Ferro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com Beneficiam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92640" y="2590920"/>
            <a:ext cx="2514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Benefi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35240" y="1600200"/>
            <a:ext cx="99036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35840" y="1600200"/>
            <a:ext cx="2514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po de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9040" y="4648320"/>
            <a:ext cx="1981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ar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745320" y="2209680"/>
            <a:ext cx="838080" cy="914400"/>
          </a:xfrm>
          <a:custGeom>
            <a:avLst/>
            <a:gdLst>
              <a:gd name="textAreaLeft" fmla="*/ 0 w 838080"/>
              <a:gd name="textAreaRight" fmla="*/ 83844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0800000">
            <a:off x="1638720" y="2209680"/>
            <a:ext cx="838440" cy="91440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54440" y="350532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087880" y="327636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3000" y="52578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108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baix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2164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p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8440" y="312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j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2080" y="4267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ircu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1720" y="6004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99960"/>
            <a:ext cx="8001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336680"/>
            <a:ext cx="85345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Minas Gerais é um Estado com forte vocação para desenvolvimento de atividades minerár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mineração é uma atividade dinâmica do ponto de vista do uso de recursos hídr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mineração normalmente utiliza grandes volumes de água em seus processos </a:t>
            </a:r>
            <a:r>
              <a:rPr b="0" lang="pt-PT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 geração de confli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IGAM busca o aprimoramento dos procedimentos de análise e das exigências técnicas, de forma a compatibilizar a atividade minerária e a gestão das águas no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Unicode MS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28480" y="2637000"/>
            <a:ext cx="6667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ffff"/>
                </a:solidFill>
                <a:latin typeface="CAC Futura Casual Bold"/>
              </a:rPr>
              <a:t>Maria Luiza Silva Ram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ffff"/>
                </a:solidFill>
                <a:latin typeface="CAC Futura Casual Bold"/>
              </a:rPr>
              <a:t>malu@igam.mg.gov.br</a:t>
            </a:r>
            <a:r>
              <a:rPr b="1" lang="pt-BR" sz="2600" spc="-1" strike="noStrike">
                <a:solidFill>
                  <a:srgbClr val="00ffff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Divisão de Instrumentalização e Contr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(DvRC/ IG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Telefone: (31) 3337-3355, ramal 1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ff"/>
                </a:solidFill>
                <a:latin typeface="Arial Unicode MS"/>
              </a:rPr>
              <a:t>www.igam.mg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830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INCIPAIS USOS DE RECURSOS HÍDRICOS  NA MINERAÇÃO SUJEITOS A OUTORG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355760"/>
            <a:ext cx="7696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Captação direta em curs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Captação em barramento com regularização de vaz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Poços tubulares e demais estruturas de captação de água subterrâ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Barramento para disposição de rejeitos, contenção de sedimentos e/ou recirculaçã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Rebaixamento de nível d’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Dragagem em curso de água para extração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1371600"/>
            <a:ext cx="807732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IPOS DE CAP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ireta no curs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m barramento com regularização de vaz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oços tubula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de água captado a ser utilizado nas atividades minerárias de acordo com a disponibilidade hídrica e os critéri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CAPTAÇÃO EM CORPO DE 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981080"/>
            <a:ext cx="708660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INFORMAÇÕES SOLICITADAS PELO I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Volume de material afluente ao reservató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Características do material aflu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Balanço hídrico entre o volume de água lançado no reservatório e o volume a ser recircul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Dimensionamento das estruturas de descarga considerando a vazão mínima residual e a cheia máxima de proj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2104920"/>
            <a:ext cx="70866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 O FOCO DE ANÁLISE DO IG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r a vida útil do barramento em função da sua capacidade de acumulação e das características do material afluent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r o dimensionamento das estruturas de descarga do barra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730520"/>
            <a:ext cx="8381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 QUE É OUTORG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 barramento que poderá ter as seguintes final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ceber a polpa de rejeitos gerada no processo de benefici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er os finos e sedimentos existentes nas áreas de ext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circulação de á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1371600"/>
            <a:ext cx="80773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ff9900"/>
                </a:solidFill>
                <a:latin typeface="Arial"/>
              </a:rPr>
              <a:t>O rebaixamento de NA tem por objetivo manter o nível d’água em uma determinada cota que permita a continuidade das atividades de lavra</a:t>
            </a: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S DE CAP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Poços tubulares (bateria de poç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Galerias de dren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Drenos horizont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Bombeamento no fundo da c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58080" y="4724280"/>
            <a:ext cx="936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57720" y="5372280"/>
            <a:ext cx="93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97680" y="4989600"/>
            <a:ext cx="23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AIX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171440"/>
            <a:ext cx="84582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Projeto e Pesquisa Hidrogeológ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etivo: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ção das características hidrogeológicas e geométricas do aqüífero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mbeamento de poços tubulares (24 horas / pré - rebaix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ções solici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crição detalhada e cronograma dos estudos técn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é - projeto do sistema de rebaixamento (estruturas de captação, vazões, cotas, et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utorização para perfuração dos poços tubula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jeto de instalação da rede de monitoramento hidrológico, pluviométrico e piezomét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ros dados específicos a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77920"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981000"/>
            <a:ext cx="845820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Projeto e Pesquisa Hidrogeológica (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ntinuaçã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odelo hidrogeológico conceitual e modelo matemático de fluxo subterrâne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finir o sistema de rebaixamento a ser implan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de de monitoramento hidrológico, pluviométrico e piezomét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finição da área de influência do rebaixamento e os possíveis impactos na disponibilidade hídr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edidas mitigadoras a serem executadas nos diversos cenários de impacto previ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13:25:36Z</dcterms:created>
  <dc:creator>LCC-DEGEO</dc:creator>
  <dc:description/>
  <dc:language>en-US</dc:language>
  <cp:lastModifiedBy>dico-outorga</cp:lastModifiedBy>
  <dcterms:modified xsi:type="dcterms:W3CDTF">2004-03-15T22:28:38Z</dcterms:modified>
  <cp:revision>248</cp:revision>
  <dc:subject/>
  <dc:title>INTRODUÇÃO</dc:title>
</cp:coreProperties>
</file>